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6031"/>
        <c:axId val="96381061"/>
      </c:barChart>
      <c:catAx>
        <c:axId val="90386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1061"/>
        <c:crosses val="autoZero"/>
        <c:auto val="1"/>
        <c:lblAlgn val="ctr"/>
        <c:lblOffset val="100"/>
        <c:noMultiLvlLbl val="0"/>
      </c:catAx>
      <c:valAx>
        <c:axId val="96381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6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719-CF63-42CA-9459-B8C6AC44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A74-C6F8-46C5-83FE-12CE58FF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05B-1A09-4319-A31F-40802126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F11-96C5-4613-8DD5-3BDE5D27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AB5-BE86-438F-B2FD-3842D9D0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20D-756D-495E-B987-3EB248F9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41E-CB8A-4462-8997-24C5B735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104-5ABC-4EEF-85C6-0FCF3250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A41-4FB6-402F-BC12-8A3271DB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66B-252E-42CE-81E9-0EA78E4D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762-31C0-46E7-B172-82498EE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E21-B51A-4B8F-AE7A-C11502E5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6551B-4713-42EE-AFAF-1F69CB5BD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